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F33-8006-4B82-A0D9-986E24B0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16A-7B60-44D9-B8CF-A2406A3E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A5A-DF5E-480E-ABAC-165521B9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4E1-78CC-43A2-B9B5-36CB607B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ED7C-E6B6-4F63-81B7-95044E88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8EFC-7998-42B6-95DA-2DAF9539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4EC1-6F23-4B0A-B538-DEA6E7C1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FF17-9895-4543-97E4-87A0F98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DA7C-914E-4214-A526-70312E7D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C67D-3658-4832-AD81-4A89EF1E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439D-1084-4731-B922-87560A7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DF8-C060-4941-BE58-198EA220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5EA7-9EBC-4A8C-B858-37DA27D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A3C6-543B-4501-B777-E0D13170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8C99-E516-4B76-BE84-6BBC803A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0F85-45A7-428F-AF73-F99BFF24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82AD-9557-49DC-81C2-8E5BCCA8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DDC-01DF-4B2A-B779-3E733965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91B-575D-4C9C-B4AE-A3E9C50A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3F6-F6AA-40BD-84EE-0C17F563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107-51EB-40AC-902B-A6C3D18F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FF7-E550-4026-B772-EACD4E63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639-23EF-4B5E-9FD7-13B90777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286-E2CC-4CDC-B82D-34BD96E8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BF24-338B-41E7-851E-CFE03ED049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5A5A-2257-4F47-B024-C224C393C86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85760" y="396720"/>
            <a:ext cx="7783560" cy="1505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«Схематический рисунок как средство закрепления знаний на занятиях у детей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(на примере образовательной области «Безопасность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Фефилова О.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П «Детский сад №66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арпогорская СОШ № 118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DSC_0008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DSC_0009.JPG"/>
          <p:cNvPicPr/>
          <p:nvPr/>
        </p:nvPicPr>
        <p:blipFill>
          <a:blip r:embed="rId1"/>
          <a:stretch/>
        </p:blipFill>
        <p:spPr>
          <a:xfrm>
            <a:off x="179280" y="907920"/>
            <a:ext cx="87487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DSC_0010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26792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404640"/>
            <a:ext cx="59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аспределение детей по уровням воспроизведения знаний полученных на занятии в 1 и 2 части эксперимента (ЭГ – группа Б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зультаты второй части эксперимента свидетельствуют о том, что схематический рисунок можно применять на занятиях как средство закрепления знаний у детей старшего дошкольного возраста при следующих условиях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обучения детей фиксировать информацию в схематическом рисунк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упражнения детей в применении схематического рисунка для закрепления и воспроизведения зн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включения схематического рисунка в заключительную ча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аняти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Схематический рисунок является достаточно эффективным средством закрепления знаний детей на занятия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ы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по обмену опыт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спользовани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хематического  рисунка для  закрепления знаний на занятиях у детей старшего дошкольного возраст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клад   на научно – практической конференции в С(А)ФУ г. Северодвинск с темой «Схематический рисунок как средство закрепления знаний на занятиях у детей старшего дошкольного возраста (на примере образовательной области «Безопасность»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81080"/>
            <a:ext cx="8321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выбранной темы определяется тем, что  на данный момент использование схематического рисунка изучалось как средство запоминания в лабораторных условиях и в работе по коррекции памяти, но не изучалось  как средство закрепления знаний на занятиях.  Обучение детей фиксировать предметы с помощью схематического рисунка  облегчит и ускорит процесс запоминания и усвоение материала. Применяя схематический рисунок, дети научатся  планировать высказы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изучение возможностей использования схематического рисунка как средства закрепления знаний на занятиях у детей 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 – педагогическую литературу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вить особенности  применения педагогами ДОУ средств закрепления знаний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обучения детей старшего дошкольного возраста  использованию схематического рисунка как средства закрепления знаний на занят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рить эффективность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щение библиотек, педагогических сайтов в интерн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и изучение научно – методической литератур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работами других педагог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ыявление особенностей и оценка эффективности применения педагогами ДОУ средств закрепления знаний детей на занятиях при освоении образовательной области «Безопасность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- разработка и апробация методики обучения детей старшего дошкольного возраста  использованию схематического рисунка как средства закрепления знаний на занят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проверка эффективности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упление на педсов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лад на научно – практической конференции в С(А)ФУ г. Северодв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Задачи 1 части этап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 и проанализировать опыт работы педагогов ДОУ по использованию средств закрепления знаний на занятиях на примере образовательной области «Безопаснос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ценить эффективность применения  педагогами средств закрепления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адачи 2 части эта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применения схематического рисунка с целью закрепления знаний детей, включающу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обучение детей фиксировать информацию в схематическом рисун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упражнение детей в применении схематического рисунка для закрепления и воспроизведения зн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включение схематического рисунка в заключительную часть занят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155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Содержимое 7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900000" y="83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ровни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спроизведения знаний получен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а занят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DSC_0007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8:04:26Z</dcterms:created>
  <dc:creator>михаил</dc:creator>
  <dc:description/>
  <dc:language>en-US</dc:language>
  <cp:lastModifiedBy>Учитель</cp:lastModifiedBy>
  <dcterms:modified xsi:type="dcterms:W3CDTF">2014-04-15T05:27:51Z</dcterms:modified>
  <cp:revision>46</cp:revision>
  <dc:subject/>
  <dc:title>ТЕМА</dc:title>
</cp:coreProperties>
</file>